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44B-8AD2-4A46-824B-A514A361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B0F-5DF0-4358-845F-7F87182E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C06-3DCE-4531-A2C9-88FF785E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30E-837E-4AEA-AFF4-D1725A2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79A-D7AF-4919-A2FE-6C0A57F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247-EFFE-4CE3-AF9E-B3B4224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06E-5FBD-48E6-9F0C-22A4749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083-3D39-4340-A2C3-26C0F6C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158-C89F-4BD0-8EB3-3AA1C66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A77-85FB-4A2C-98D7-C9C82DBA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C41-D4A3-4F55-8A43-615F734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451-F692-47F1-B8E1-C1582773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BF9-4426-4F4B-8E85-6E5710E9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zrailit.net/gallery/vacations/may2007_israel/jerusalem_new_city/imgp0793.jpg&amp;imgrefurl=http://izrailit.blogspot.com/2007_05_01_archive.html&amp;usg=__9FJ5feVRv_xNtIwuwE9R7ITQdDw=&amp;h=960&amp;w=1280&amp;sz=678&amp;hl=en&amp;start=20&amp;um=1&amp;tbnid=XkswJjM5QK8c-M:&amp;tbnh=113&amp;tbnw=150&amp;prev=/images%3Fq%3Dmea%2Bshearim%26um%3D1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israeli-art.com/fotografie/pawlowski/images/mea-sh13.gif&amp;imgrefurl=http://www.israeli-art.com/fotografie/pawlowski/mea-shearim.htm&amp;usg=__D2OC27lqRfm51BNBJMQLQDghkOo=&amp;h=350&amp;w=520&amp;sz=173&amp;hl=en&amp;start=17&amp;um=1&amp;tbnid=cFmSGM9cPVgRRM:&amp;tbnh=88&amp;tbnw=131&amp;prev=/images%3Fq%3Dmea%2Bshearim%26um%3D1%26hl%3De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raelimages.com/searchresult_watermark.php%3Fimage%3DThumbnail_120_120/12210.jpg%26watermark_text%3D%26watermark_color%3Dffffff&amp;imgrefurl=http://www.israelimages.com/searchresult.php%3Fcomefrom%3Dcatsub%26src_text_arr%255B%255D%3D278&amp;usg=__GcFNjdQ3q8iZFWdH5d_FAL1xu2Q=&amp;h=120&amp;w=80&amp;sz=4&amp;hl=en&amp;start=43&amp;um=1&amp;tbnid=LMfohx1AaHKwcM:&amp;tbnh=88&amp;tbnw=59&amp;prev=/images%3Fq%3Dwomen%2Bin%2Bmea%2Bshearim%26start%3D40%26ndsp%3D2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cache.daylife.com/imageserve/07aA8OK3WZ1gf/340x.jpg&amp;imgrefurl=http://www.daylife.com/photo/07aA8OK3WZ1gf&amp;usg=__b0uz21lJxcAvqWOUOK-pmPXqI3k=&amp;h=491&amp;w=340&amp;sz=42&amp;hl=en&amp;start=46&amp;um=1&amp;tbnid=73JHPEUdJ6vL6M:&amp;tbnh=130&amp;tbnw=90&amp;prev=/images%3Fq%3Dwomen%2Bin%2Bmea%2Bshearim%26start%3D40%26ndsp%3D20%26um%3D1%26hl%3Den%26sa%3D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4.static.flickr.com/3079/2647175664_17602423ea.jpg%3Fv%3D0&amp;imgrefurl=http://flickr.com/photos/jonask/2647175664/&amp;usg=__7JFqKgBm8tIqdPNP_r8Fyy4LhmU=&amp;h=334&amp;w=500&amp;sz=98&amp;hl=en&amp;start=50&amp;um=1&amp;tbnid=KNpsw5C7FbzADM:&amp;tbnh=87&amp;tbnw=130&amp;prev=/images%3Fq%3Dwomen%2Bin%2Bmea%2Bshearim%26start%3D40%26ndsp%3D2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image60.webshots.com/160/6/75/82/2022675820086161017clHQuZ_fs.jpg&amp;imgrefurl=http://travel.webshots.com/photo/2022675820086161017clHQuZ&amp;usg=__T1QzeANFGW1bESbH7gHK3GWd7Wo=&amp;h=1704&amp;w=2272&amp;sz=478&amp;hl=en&amp;start=3&amp;um=1&amp;tbnid=YZqBTpJjsifBgM:&amp;tbnh=112&amp;tbnw=150&amp;prev=/images%3Fq%3Dwomen%2Bin%2Bmikve%26um%3D1%26hl%3De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rusalemshots.com/i/uploaded2/0311071217.jpg&amp;imgrefurl=http://www.jerusalemshots.com/Jerusalem_en19-4152.html&amp;usg=__iQ6CHjMA1xKuo5GgLO1vNEm-Vx8=&amp;h=378&amp;w=478&amp;sz=118&amp;hl=en&amp;start=7&amp;um=1&amp;tbnid=dvLPyARc0FNsNM:&amp;tbnh=102&amp;tbnw=129&amp;prev=/images%3Fq%3Dmea%2Bshearim%26um%3D1%26hl%3Den%26sa%3D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1.trekearth.com/photos/13490/mea_shearim.jpg&amp;imgrefurl=http://www.trekearth.com/gallery/photo588782.htm&amp;usg=__HGNgaO-uNzP5T30dfsrM-XaMfjs=&amp;h=490&amp;w=743&amp;sz=162&amp;hl=en&amp;start=1&amp;um=1&amp;tbnid=B1s5AnE5WTkXWM:&amp;tbnh=93&amp;tbnw=141&amp;prev=/images%3Fq%3Dmea%2Bshearim%26um%3D1%26hl%3Den%26sa%3D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p0.blogger.com/_111tDyFRaRU/R4rwXUP3dhI/AAAAAAAAA_8/QFrnuU6TJas/s400/mea%2Bshearim.jpg&amp;imgrefurl=http://israel-sun.blogspot.com/2008/01/revisiting-mea-shearim.html&amp;usg=__EDCfnYX9kCUn0_uZGVBIuuWzpxA=&amp;h=300&amp;w=400&amp;sz=40&amp;hl=en&amp;start=6&amp;um=1&amp;tbnid=UKWiZf5d4QXsmM:&amp;tbnh=93&amp;tbnw=124&amp;prev=/images%3Fq%3Dmea%2Bshearim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0/Breslov_kids_prepare_for_Shabbat,_Mea_Shearim,_Jerusalem.jpg&amp;imgrefurl=http://commons.wikimedia.org/wiki/Image:Breslov_kids_prepare_for_Shabbat,_Mea_Shearim,_Jerusalem.jpg&amp;usg=__iTYQMdNI7yCxVjKnRm2MXBNk9c4=&amp;h=768&amp;w=1024&amp;sz=491&amp;hl=en&amp;start=8&amp;um=1&amp;tbnid=qIrIN5VBP4LLfM:&amp;tbnh=113&amp;tbnw=150&amp;prev=/images%3Fq%3Dmea%2Bshearim%26um%3D1%26hl%3Den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jerusalemshots.com/i/uploaded2/0311071217.jpg&amp;imgrefurl=http://www.jerusalemshots.com/Jerusalem_en19-4152.html&amp;usg=__iQ6CHjMA1xKuo5GgLO1vNEm-Vx8=&amp;h=378&amp;w=478&amp;sz=118&amp;hl=en&amp;start=7&amp;um=1&amp;tbnid=dvLPyARc0FNsNM:&amp;tbnh=102&amp;tbnw=129&amp;prev=/images%3Fq%3Dmea%2Bshearim%26um%3D1%26hl%3Den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tsgila.com/images/tipsadv6.gif&amp;imgrefurl=http://www.itsgila.com/tipsadventure.htm&amp;usg=__94gXEt-oe3zq1g2LVwr080VI4BA=&amp;h=300&amp;w=400&amp;sz=93&amp;hl=en&amp;start=5&amp;um=1&amp;tbnid=2UJmF_Rz1WWfQM:&amp;tbnh=93&amp;tbnw=124&amp;prev=/images%3Fq%3Dmea%2Bshearim%26um%3D1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img.bbc.co.uk/media/images/44086000/jpg/_44086687_haredi203_1.jpg&amp;imgrefurl=http://news.bbc.co.uk/1/hi/world/middle_east/6970195.stm&amp;usg=__OdQmniJamNXV2dgDC-Kumo_jS74=&amp;h=220&amp;w=203&amp;sz=16&amp;hl=en&amp;start=9&amp;um=1&amp;tbnid=wWXR1k5TGNdHNM:&amp;tbnh=107&amp;tbnw=99&amp;prev=/images%3Fq%3Dyeshiva%2Bin%2Bmea%2Bshearim%26um%3D1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eb.israelinsider.com/Static/Binaries/Article/Orthodox%2520in%2520Mea%2520Shearim%2520173%2520148_0.jpg&amp;imgrefurl=http://web.israelinsider.com/Articles/Culture/10454.htm&amp;usg=__kAPOlrJURhCoBd4Ggw2Dh_5RVls=&amp;h=148&amp;w=173&amp;sz=9&amp;hl=en&amp;start=48&amp;um=1&amp;tbnid=Qq-aXiUeWJ2kcM:&amp;tbnh=86&amp;tbnw=100&amp;prev=/images%3Fq%3Dwomen%2Bin%2Bmea%2Bshearim%26start%3D40%26ndsp%3D20%26um%3D1%26hl%3Den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tosearch.com/bthumb/IST/IST520/1246640.jpg&amp;imgrefurl=http://www.fotosearch.com/photos-images/skullcap.html&amp;usg=__qP6Y-asgM_pLH5Go8g2YuQaXNus=&amp;h=112&amp;w=170&amp;sz=7&amp;hl=en&amp;start=20&amp;um=1&amp;tbnid=AqgyC7-5yFRGTM:&amp;tbnh=65&amp;tbnw=99&amp;prev=/images%3Fq%3Dmen%2Bpraying%2Bin%2Bmea%2Bshearim%26um%3D1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288/europetrip/16-Jerusalem-PostersinUltraOrthodox.jpg&amp;imgrefurl=http://liberatexinferis.blogspot.com/&amp;usg=__9XrbGm0Yid9QoIPsuklhIpH1RJA=&amp;h=600&amp;w=800&amp;sz=121&amp;hl=en&amp;start=7&amp;um=1&amp;tbnid=KY-7SQKGTLPd8M:&amp;tbnh=107&amp;tbnw=143&amp;prev=/images%3Fq%3Dmen%2Bpraying%2Bin%2Bmea%2Bshearim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yeshivaworld.com/wp-content/uploads/2008/06/mikvah.jpg&amp;imgrefurl=http://theyeshivaworld.com/article.php%3Fs%3Dmikva&amp;usg=__7Mf09m6FE8kSQx4apPxEHCd57O8=&amp;h=419&amp;w=480&amp;sz=48&amp;hl=en&amp;start=1&amp;um=1&amp;tbnid=ejRWfZiPOS6M6M:&amp;tbnh=113&amp;tbnw=129&amp;prev=/images%3Fq%3Dmen%2Bin%2Bthe%2Bmikve%2Bjerusalem%26um%3D1%26hl%3De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אלות על "מאה שערים"</a:t>
            </a:r>
            <a:br>
              <a:rPr sz="44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כונה בירושל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שיעור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עמוד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262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475000"/>
            <a:ext cx="3505320" cy="263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751120"/>
            <a:ext cx="32767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חתונה  יש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   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3217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ד איזה גיל הבחורות לומד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בית ספ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600200"/>
            <a:ext cx="3014640" cy="4495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2209680"/>
            <a:ext cx="22813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הנשים מתרחצות  במקווה 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270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12596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הסוף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133720"/>
            <a:ext cx="3276720" cy="2590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00600" y="2684520"/>
            <a:ext cx="39625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פה שכונת מאה  שערים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מתי השכונה קמ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366920"/>
            <a:ext cx="3429000" cy="226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29718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  גר  במאה  שער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286000"/>
            <a:ext cx="4191120" cy="3157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5146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ך האנשים מתלבשים 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9810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פה ילדים ובחורים לומד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9040" y="1752480"/>
            <a:ext cx="3525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, באיזה  גיל בחורות מתחתנ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882800"/>
            <a:ext cx="4038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כמה פעמים ביום הבחורים מתפללים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51200"/>
            <a:ext cx="52578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מה יש במאה שערים ברחו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כמו עיתון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016000"/>
            <a:ext cx="4724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תי הגברים מתרחצים במקווה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במאה שער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438280"/>
            <a:ext cx="39625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8:27:55Z</dcterms:created>
  <dc:creator>Preferred Customer</dc:creator>
  <dc:description/>
  <dc:language>en-US</dc:language>
  <cp:lastModifiedBy>aschlezinger</cp:lastModifiedBy>
  <dcterms:modified xsi:type="dcterms:W3CDTF">2010-04-12T17:28:24Z</dcterms:modified>
  <cp:revision>3</cp:revision>
  <dc:subject/>
  <dc:title>שאלות על "מאה שערים" שכונה בירושלים </dc:title>
</cp:coreProperties>
</file>